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E38-E368-410E-A3C0-0EE5C8A41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D241-294B-4AFA-97E1-395B777E0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247-BA40-462C-B8AD-FCB9CE16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9E6-8086-4AD2-96AF-D409B71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6FE-9907-4F64-ABA4-F9F7D7E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ED5-FDE2-463D-AB55-08E7F86F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74C-EBFF-4861-9A2B-1E76C4B0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510-39A9-4671-B94D-8281B9FE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336-FFC5-4ECA-97BB-06E51CC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305-3FD4-493C-8839-4D4047C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C14-9F37-4684-9D19-5339409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197-D551-4EDB-A938-B439EE3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8F0-1BE0-4F80-AC64-D516AEE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21C-E3CC-4841-81A2-C60C4DB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6B9E-D329-4D29-9FF7-E3EBB5A09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EC23-44D3-49C0-9930-A25796983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янва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67C8-C68B-4EDA-9A71-9FB441DCA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янва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1-09T05:03:54Z</dcterms:modified>
  <cp:revision>163</cp:revision>
  <dc:subject/>
  <dc:title>Презентация PowerPoint</dc:title>
</cp:coreProperties>
</file>